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B25-A50D-45B4-8C65-DC8C3821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601-E98A-4F40-A2A9-6379F104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F52-20F4-43AB-9C5F-8E16B3C2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C81-F999-4144-B442-E8A3209B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88D-4323-49EF-B57D-E005C52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383-6A0D-4F2E-9DC9-6870AC7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854-829D-4BF4-9AE9-34EA1AA5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A60-BEF3-4223-9536-16587176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EC7-54B0-4858-8C80-2FD01E49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184-5486-4F7D-91EE-DCA0D8C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940-2120-40A3-B269-0319557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D72-DD82-402A-8A2A-D9283297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25DC-DEB2-45D5-A94C-2F28FA4470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916360" y="2781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11:33:52Z</dcterms:modified>
  <cp:revision>800</cp:revision>
  <dc:subject/>
  <dc:title>Free PPT Backgrounds</dc:title>
</cp:coreProperties>
</file>